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937-5391-49E0-887B-EBDB137E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1ED-D4DB-4C5F-AADC-9E745901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A9B-A461-450C-89CD-36D3F218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2C4-78D5-45A7-8FD9-35782FE3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D0E-5DDF-4311-9328-382F6B8C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A7A-69F9-4EE4-ADCE-A2B7F110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0EA-E6C5-4465-ADFA-CFEBED0A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462-9582-4F68-B62C-38A85443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DD5-E7BE-47B1-8E3D-8253CDB0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FE6-6800-44AF-8355-7600F20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853-BB3C-4C13-86CC-21B59C8F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CFF-E21F-488C-A556-58627FB7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EAA1-245F-4C6A-97F2-8557741F4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13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umea piticilor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ovești pentru cei m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89120" y="2133720"/>
            <a:ext cx="2281320" cy="2639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27760" y="2133720"/>
            <a:ext cx="2144520" cy="263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3:45Z</dcterms:created>
  <dc:creator>AS</dc:creator>
  <dc:description/>
  <dc:language>en-US</dc:language>
  <cp:lastModifiedBy>AS</cp:lastModifiedBy>
  <dcterms:modified xsi:type="dcterms:W3CDTF">2010-01-07T19:36:11Z</dcterms:modified>
  <cp:revision>5</cp:revision>
  <dc:subject/>
  <dc:title>Lumea piticilor …</dc:title>
</cp:coreProperties>
</file>